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BDA7-37CE-4B0E-BF85-796E1FF1877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042-C51E-45F5-B1E8-A7015A7B367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운 현상의 발견 저평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실험적 조작 금지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운 자연철학 옹호자들의 주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: “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아리스토텔레스주의는 경험에 입각하지 않고 논리와 말장난을 일삼는 이론 체계”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Q.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는 경험적 전통의 대표주자 아니었나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A.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의 ‘경험’ ≠ 새로운 자연철학자들의 ‘경험’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아리스토텔레스와 스콜라철학에서 경험의 위상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경험은 모든 지식의 ‘원천’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플라톤과 달리 경험 강조했음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But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의 경험은 </a:t>
            </a:r>
            <a:r>
              <a:rPr b="1" lang="ko-KR" sz="1500" spc="-1" strike="noStrike" u="sng">
                <a:solidFill>
                  <a:srgbClr val="c0504d"/>
                </a:solidFill>
                <a:uFillTx/>
                <a:latin typeface="맑은 고딕"/>
              </a:rPr>
              <a:t>‘</a:t>
            </a:r>
            <a:r>
              <a:rPr b="1" lang="en-US" sz="1500" spc="-1" strike="noStrike" u="sng">
                <a:solidFill>
                  <a:srgbClr val="c0504d"/>
                </a:solidFill>
                <a:uFillTx/>
                <a:latin typeface="맑은 고딕"/>
              </a:rPr>
              <a:t>common knowledge’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누구나 알고 있고 일상에서 수없이 관찰되어 친숙해진 </a:t>
            </a:r>
            <a:r>
              <a:rPr b="1" lang="ko-KR" sz="1500" spc="-1" strike="noStrike">
                <a:solidFill>
                  <a:srgbClr val="c0504d"/>
                </a:solidFill>
                <a:latin typeface="맑은 고딕"/>
              </a:rPr>
              <a:t>‘보편적 경험’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예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) “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해가 동쪽에서 떠오른다” “무거운 것은 아래로 떨어진다”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아리스토텔레스 자연철학의 목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이미 알려진 것들’에 대해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, “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왜” 그런 현상이 일어나게 되는지를 설명하는 것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08AA-53E3-407E-B6D7-CD8CC391822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지식의 원천은 경험에 근거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 경험의 중요성은 매우 적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사실을 추가하거나 기존 사실을 변경하거나 더 상세하고 정교한 사실을 구축하는 일에는 관심이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0355-87DA-460F-A653-4F40D568FCE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후반의 과학자들에게 큰 영향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험과학을 발전시킨 단 한명의 위대한 사람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을 마스터하고 인간을 위해 사용하도록 한 사람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실험과학의 첫 번째 순교자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과학자라기보다는 과학철학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정치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D0AF-8215-4BB3-A863-AD6C1AECFFE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E76-8463-4210-9C0E-6572F2AEE61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술적 전통과 르네상스 엔지니어 전통에 대한 비판적 수용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험과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6329-11FA-4164-AD14-058353E3B17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B5A-4191-4517-9A1F-364698121DD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존에 알고 있는 것 자체가 너무 적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뢰하기 어렵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잘못된 것이 많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체계적으로 정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집된 경험적 사실들이 부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잘못된 언어에 현혹되지 말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상적인 언어로 표현된 것은 사실이 아닐 가능성이 높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체적인 진술일수록 왜곡 없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C39C-0E0E-4FD6-84A3-58E97DA7E92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D04D-B745-43F9-83A1-1C214AA8501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를 들어 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빛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기 등 여러 가지 현상 각각에 대해 모든 경험적 사실들을 수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리해서 얻어내게 될 참다운 경험적 지식들인 셈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 베이컨 자신이 여러 문제들에 대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-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과 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밀도가 큰 것과 희박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거움과 가벼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빛 등에 대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-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사들을 집필했고 후에 보일 같은 사람도 이러한 형태의 연구를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27E-70CA-4762-8597-3592CC499B7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이성적인 방법으로 경험 훈련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갈릴레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데카르트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도구를 통한 감각의 보완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망원경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현미경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도구의 신뢰성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신뢰할 수 있는 ‘목격자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젠틀맨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국왕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보일의 실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상세한 보고서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가상의 목격자 산출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보일의 실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직접 목격하지 못한 독자들이 ‘사실상의 목격자’가 될 수 있도록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사실 그대로의 기록’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실험이 언제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어떻게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어디서 행해졌는지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또 누가 참석했고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몇 번이나 반복했는가 등을 세세하게 열거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성공과 마찬가지로 실패도 보고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장황한 상황 설명 → 실험 결과를 독자들이 불신하지 않도록 만듦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0B8-BB52-42FA-96C1-7599917062A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대륙 발견과 유럽의 팽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르네상스 인문주의와 인쇄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사실들과 고대 원전의 범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개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경 해석의 권위는 누구에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도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의 중심은 어디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0E3D-AF04-4931-9A6E-D43FEC39808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9900cc"/>
                </a:solidFill>
                <a:latin typeface="맑은 고딕"/>
              </a:rPr>
              <a:t>아리스토텔레스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는 방해 받지 않은 자연의 일상적 움직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ordinary course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을 설명하는 데 초점 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 자연에 개입해 들어가는 실험은 자연을 ‘비자연스러운 것’으로 만드는 것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과 인공의 구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맑은 고딕"/>
              </a:rPr>
              <a:t>17</a:t>
            </a:r>
            <a:r>
              <a:rPr b="1" lang="ko-KR" sz="2400" spc="-1" strike="noStrike">
                <a:solidFill>
                  <a:srgbClr val="9900cc"/>
                </a:solidFill>
                <a:latin typeface="맑은 고딕"/>
              </a:rPr>
              <a:t>세기 실험철학자들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은 인공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인위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으로 만들어진 효과에 대해 관심 보임 </a:t>
            </a:r>
            <a:r>
              <a:rPr b="1" lang="ko-KR" sz="2400" spc="-1" strike="noStrike">
                <a:solidFill>
                  <a:srgbClr val="9900cc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9900cc"/>
                </a:solidFill>
                <a:latin typeface="맑은 고딕"/>
              </a:rPr>
              <a:t> 실험기구로 자연을 ‘고문하여’ 베일에 감춰진 모습을 드러내야 자연의 법칙을 밝혀낼 수 있음</a:t>
            </a:r>
            <a:r>
              <a:rPr b="1" lang="en-US" sz="2400" spc="-1" strike="noStrike">
                <a:solidFill>
                  <a:srgbClr val="9900cc"/>
                </a:solidFill>
                <a:latin typeface="맑은 고딕"/>
              </a:rPr>
              <a:t>!!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/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과 인공의 구분 약화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8E20-6B7C-40AA-AD76-9D30DF2E353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히려 자연의 숨겨진 진리를 더 잘 드러내는 방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A931-DDE0-4BEF-A474-CC98663A051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람과 풍차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35B4-6384-4CE7-A36B-42F3E77F4F1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종의 인과 법칙 얻을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4734-2977-4425-A018-42E98F3A0C1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신대륙 탐험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: ‘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배’를 타고 ‘미지의 세계’의 ‘탐험’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진기한 물건 수집 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/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새로운 동식물 발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정밀한 도구’로 ‘신기한 자연현상’의 ‘발견’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망원경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현미경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아직 알려지지 않은 사실 ‘발견’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→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진공펌프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프리즘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일상적으로는 일어나지 않는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   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자연현상 ‘창조’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4CB-519E-495A-8F8D-7658F9569EE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CA3-24F6-4416-900B-CB76F39294E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70B-DE4C-4D4D-9261-76A1600F134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FDDB-01ED-4E54-992F-8472C3F523CE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F7C5-B910-49B1-9CAE-374230EA5E2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BC75-90E7-4ACC-99BB-3BCE0228605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B941-4899-4DD2-BB99-083AE73E406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 수집 혼자서 못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러 명 같이 해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상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3466-D767-4CB0-8DAF-4E96CB71121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후 과학단체를 통해 구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FA7-C8EB-43E7-9FB9-65D99D49196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6C1E-050B-428F-8956-84367E2A7F0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이탈리아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린체이 아카데미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Cesi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공 후원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1601; 1630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와해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치멘토 아카데미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57, Leopold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공의 후원이 끊기며 와해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프랑스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메르센느 그룹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30s-1644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테베노 그룹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64)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이 그룹이 콜베르에게 도움을 요청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왕립 과학아카데미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66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영국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윌킨스 중심의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철학 칼리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644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년경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런던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 옥스포드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1660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년 왕정복고 이후에 런던으로 돌아와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왕립학회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Royal Society)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를 설립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3831-63D1-4A00-8DB5-BC1C3AEEFC73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왕립학회 회장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(Ashmole), Charles II (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국왕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베이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열악한 상황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국왕으로부터 헌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Charter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을 받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t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재정적인 지원 無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험실 無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회원 회비로 운영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비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프랑스 왕립과학아카데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철학회보</a:t>
            </a:r>
            <a:r>
              <a:rPr b="0" i="1" lang="en-US" sz="1900" spc="-1" strike="noStrike">
                <a:solidFill>
                  <a:srgbClr val="000000"/>
                </a:solidFill>
                <a:latin typeface="Book Antiqua"/>
              </a:rPr>
              <a:t>Philosophical Transactions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학회의 서기 올덴버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Henry Oldenburg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가 다른 과학자들과 교환하던 서신을 모아 개인적으로 출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곧 학회의 공식 학회지가 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현존하는 가장 오래된 학회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발견의 우선권 확인 기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공개적인 과학적 논쟁 출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실험관리인 후크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Robert Hooke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제도화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B327-CAB6-4E5B-80A6-01E18166AB4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1EAF-2D8C-4785-90A5-A67A0DF1E48E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데카르트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(Rene Descartes, 1596-1650)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철학처럼 아무런 가치도 창출하지 못했던 것이 또 무엇이 있겠느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는 ‘난로가 지펴진 방’에 혼자 틀어박혀 이미 자신이 읽은 철학 문헌들을 모두 제쳐놓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철학적 사유를 처음부터 다시 시도하는 편이 ‘낡은 기초 위에 집을 짓는 것’보다 나았던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CFF-A557-4FAF-A581-0DD052E25EC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AC6C-53BC-4408-92A8-411E013AE98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7EF-6F18-43D5-BF13-9872D116973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직자와 로마 교황의 해석에 의존하기보다 기독교인 개개인들이 직접 성서를 읽어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→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c0504d"/>
                </a:solidFill>
                <a:latin typeface="맑은 고딕"/>
              </a:rPr>
              <a:t>제도화된 권위의 전통적 해석에 얽매이지 말고 스스로 자연이라는 책을 읽을 것을 부추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5899-140F-4A03-9F0B-910334CFC77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8F2A-52B2-41DE-9BA3-4035310C9A5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주의는 경험에 입각하지 않고 논리와 말장난만 일삼는 이론 체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30DE-BE1F-44AD-B658-3FCD95FFC22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4D8-356C-4EFB-8BC1-355C6713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427-1236-40E8-AF5A-DF844CB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C45-8F48-4DC8-B6CC-2BA43FD5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E2D-553D-4A11-AD92-4C5A2B9A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492-4F8E-4F77-A7A3-FE89FDD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5F4-941E-4632-8E29-6655375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859-C766-461B-A834-2B51A354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461-9936-4796-BA4E-C0E88206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552-CBBE-4617-9071-4C45A17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EA5-76EF-4F6D-B5DE-51E890E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109-AE75-4D39-B6A9-C092E15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30E-867A-4523-9BFD-308394F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419D-303C-4DC6-96A7-C52EF76B84CA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sir francis bacon presentment"/>
          <p:cNvPicPr/>
          <p:nvPr/>
        </p:nvPicPr>
        <p:blipFill>
          <a:blip r:embed="rId1"/>
          <a:stretch/>
        </p:blipFill>
        <p:spPr>
          <a:xfrm>
            <a:off x="0" y="-3267000"/>
            <a:ext cx="14125680" cy="1158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141360"/>
            <a:ext cx="547344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c0504d"/>
                </a:solidFill>
                <a:latin typeface="Trebuchet MS"/>
              </a:rPr>
              <a:t>베이컨과</a:t>
            </a:r>
            <a:br>
              <a:rPr sz="4400"/>
            </a:br>
            <a:r>
              <a:rPr b="1" lang="ko-KR" sz="4400" spc="-1" strike="noStrike">
                <a:solidFill>
                  <a:srgbClr val="c0504d"/>
                </a:solidFill>
                <a:latin typeface="Trebuchet MS"/>
              </a:rPr>
              <a:t>실험과학의 </a:t>
            </a:r>
            <a:br>
              <a:rPr sz="4400"/>
            </a:br>
            <a:r>
              <a:rPr b="1" lang="ko-KR" sz="4400" spc="-1" strike="noStrike">
                <a:solidFill>
                  <a:srgbClr val="c0504d"/>
                </a:solidFill>
                <a:latin typeface="Trebuchet MS"/>
              </a:rPr>
              <a:t>탄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에게 경험이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상적 보편적 경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작되지 않은 자연의 관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는 매일 동쪽에서 떠오른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거운 것은 아래로 떨어진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 자연철학의 목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미 알려진 사실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어나는지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프란시스 베이컨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561-1626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확한 사실의 축적 중요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의 정당성 옹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식의 목적은 유용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협동연구의 필요성 역설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9" name="Picture 13" descr="sir francis bacon presentment"/>
          <p:cNvPicPr/>
          <p:nvPr/>
        </p:nvPicPr>
        <p:blipFill>
          <a:blip r:embed="rId1"/>
          <a:stretch/>
        </p:blipFill>
        <p:spPr>
          <a:xfrm>
            <a:off x="1976400" y="333360"/>
            <a:ext cx="51879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개의 우상과 기존 학문 비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금술과 기술 비판적 수용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비하고 모호한 관념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 방법의 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을 제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변형하여 이득을 얻으려는 태도 수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베이컨의 아이디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3300" spc="-1" strike="noStrike">
                <a:solidFill>
                  <a:srgbClr val="ffffff"/>
                </a:solidFill>
                <a:latin typeface="Trebuchet MS"/>
              </a:rPr>
              <a:t>정확한 사실을 체계적으로 수집하라</a:t>
            </a: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리가 알고 있는 것이 너무 적으며 잘못된 것이 많다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90756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세계 여러 지역에 관해서 그들이 알고 있는 지식은 단지 자그마한 부분에 지나지 않았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런 이유로 그들은 북쪽에 사는 사람들에게는 모두 스키타이라는 이름을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서쪽에 사는 사람들에게는 모두 켈트라는 이름을 붙였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들은 에티오피아 너머의 아프리카와 갠지스 강 너머의 아시아에 대해 전혀 아는 바가 없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물론 신대륙의 여러 지역에 관해서는 심지어 소문이나 믿을 만한 근거를 통해서라도 알 턱이 없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다양한 기후나 자연 조건을 지닌 채 수많은 사람들이 숨쉬며 살아가고 있는 지역들은 그리스인들에 의해 사람이 살 수 없는 곳으로 불리었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지금 보면 교외의 소풍 정도로나 간주될 데모크리토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플라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피타고라스의 나들이가 그 당시에는 무슨 대단한 것인 양 인구에 회자되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–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위대한 부흥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1620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적 방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의 수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류 이후에 일반화 및 이론 도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급한 일반화 금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선 사실 확인에 신중할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40658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거짓된 보고를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걸러낼 것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3" name="Picture 4" descr="Scan0024"/>
          <p:cNvPicPr/>
          <p:nvPr/>
        </p:nvPicPr>
        <p:blipFill>
          <a:blip r:embed="rId1"/>
          <a:stretch/>
        </p:blipFill>
        <p:spPr>
          <a:xfrm>
            <a:off x="4932360" y="765000"/>
            <a:ext cx="37591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6-17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세기 유럽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식의 위기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권위의 추락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의 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주의와 신비주의적 조류의 확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3300" spc="-1" strike="noStrike">
                <a:solidFill>
                  <a:srgbClr val="ffffff"/>
                </a:solidFill>
                <a:latin typeface="Trebuchet MS"/>
              </a:rPr>
              <a:t>자연의 진실을 밝히려면 실험을 하라</a:t>
            </a: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도구로 자연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문하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베일에 감춰진 모습을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드러내야 자연의 참된 모습을 밝혀낼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공과 자연의 구분 철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작은 자연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자연스러운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으로 만들지 않는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본질은 필요 없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!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작동만 시키면 된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을 작동시킬 수 있다면 자연을 이해한 것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0" name="Picture 2" descr="http://www.sdabeebreda.com/Wind%20mill_files/wind-mill.jpg"/>
          <p:cNvPicPr/>
          <p:nvPr/>
        </p:nvPicPr>
        <p:blipFill>
          <a:blip r:embed="rId1"/>
          <a:stretch/>
        </p:blipFill>
        <p:spPr>
          <a:xfrm>
            <a:off x="3132000" y="-531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도구의 중요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구를 통해 인간의 감각 보완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상세한 사실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구를 통해 자연에 개입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If-then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규칙 얻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9280" y="475920"/>
            <a:ext cx="356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베이컨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위대한 부흥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(1620)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9280" y="3933360"/>
            <a:ext cx="388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배를 타고 미지의 세계를 탐험하듯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도구를 통해 미지의 자연현상 탐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5" name="Picture 4" descr="Scan0016"/>
          <p:cNvPicPr/>
          <p:nvPr/>
        </p:nvPicPr>
        <p:blipFill>
          <a:blip r:embed="rId1"/>
          <a:stretch/>
        </p:blipFill>
        <p:spPr>
          <a:xfrm>
            <a:off x="755640" y="476280"/>
            <a:ext cx="394344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780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80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8" name="Picture 2" descr="http://www.postech.ac.kr/press/hs/collectedata/990129144050g_telescope.gif"/>
          <p:cNvPicPr/>
          <p:nvPr/>
        </p:nvPicPr>
        <p:blipFill>
          <a:blip r:embed="rId1"/>
          <a:stretch/>
        </p:blipFill>
        <p:spPr>
          <a:xfrm>
            <a:off x="395280" y="1197000"/>
            <a:ext cx="3313080" cy="46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파일:갈릴레오가 망원경으로 관측한 달의 표면.jpg"/>
          <p:cNvPicPr/>
          <p:nvPr/>
        </p:nvPicPr>
        <p:blipFill>
          <a:blip r:embed="rId2"/>
          <a:stretch/>
        </p:blipFill>
        <p:spPr>
          <a:xfrm>
            <a:off x="3780000" y="1197000"/>
            <a:ext cx="5018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2" name="Picture 4" descr="http://randomknowledge.files.wordpress.com/2008/01/micrographia.png?w=720"/>
          <p:cNvPicPr/>
          <p:nvPr/>
        </p:nvPicPr>
        <p:blipFill>
          <a:blip r:embed="rId1"/>
          <a:stretch/>
        </p:blipFill>
        <p:spPr>
          <a:xfrm>
            <a:off x="611280" y="836640"/>
            <a:ext cx="3449520" cy="511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rawing from Robert Hooke's, Micrographia of the compound eye of a grey drone fly."/>
          <p:cNvPicPr/>
          <p:nvPr/>
        </p:nvPicPr>
        <p:blipFill>
          <a:blip r:embed="rId2"/>
          <a:stretch/>
        </p:blipFill>
        <p:spPr>
          <a:xfrm>
            <a:off x="4211640" y="83664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6" name="Picture 2" descr="파일:로버트 보일의 진공펌프.jpg"/>
          <p:cNvPicPr/>
          <p:nvPr/>
        </p:nvPicPr>
        <p:blipFill>
          <a:blip r:embed="rId1"/>
          <a:stretch/>
        </p:blipFill>
        <p:spPr>
          <a:xfrm>
            <a:off x="250920" y="1484280"/>
            <a:ext cx="3060720" cy="367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static.guim.co.uk/Guardian/artanddesign/gallery/2008/oct/28/1000-artworks-to-see-before-you-die-art1/GD7816824@BAL5872-An-Experiment-2252.jpg"/>
          <p:cNvPicPr/>
          <p:nvPr/>
        </p:nvPicPr>
        <p:blipFill>
          <a:blip r:embed="rId2"/>
          <a:stretch/>
        </p:blipFill>
        <p:spPr>
          <a:xfrm>
            <a:off x="3218040" y="1341360"/>
            <a:ext cx="59259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0" name="Picture 5" descr="Experimentum_Crucis"/>
          <p:cNvPicPr/>
          <p:nvPr/>
        </p:nvPicPr>
        <p:blipFill>
          <a:blip r:embed="rId1"/>
          <a:stretch/>
        </p:blipFill>
        <p:spPr>
          <a:xfrm>
            <a:off x="279360" y="1773360"/>
            <a:ext cx="8540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식의 목적은 유용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참된 규칙은 자연에 적용하여 유용한 결과를 낼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인간의 지식이 곧 인간의 힘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기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 : 3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통과의 결별이 필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협동적으로 연구하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의 체계적 수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검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화 및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응용을 위한 협동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업적 조직 필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구에 대한 공적 지원과 연구에 의한 복지 증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9225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베이컨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2000" spc="-1" strike="noStrike">
                <a:solidFill>
                  <a:srgbClr val="ffffff"/>
                </a:solidFill>
                <a:latin typeface="Trebuchet MS"/>
              </a:rPr>
              <a:t>새로운 아틀란티스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(1624/1627)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0720" y="3357360"/>
            <a:ext cx="3993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벤살렘 왕국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신적 풍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솔로몬 학술원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상적인 협동연구 모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7" name="Picture 2" descr="Bacon 1628 New Atlantis title page wpreview.png"/>
          <p:cNvPicPr/>
          <p:nvPr/>
        </p:nvPicPr>
        <p:blipFill>
          <a:blip r:embed="rId1"/>
          <a:stretch/>
        </p:blipFill>
        <p:spPr>
          <a:xfrm>
            <a:off x="611280" y="476280"/>
            <a:ext cx="388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0" name="Picture 2" descr="http://blogfiles.naver.net/20110121_193/bamiya_1295568599711BwkUX_JPEG/%BA%A5%BB%EC%B7%BD%BC%B6%2C_%B1%E8%C0%E7%C0%CC.jpg"/>
          <p:cNvPicPr/>
          <p:nvPr/>
        </p:nvPicPr>
        <p:blipFill>
          <a:blip r:embed="rId1"/>
          <a:stretch/>
        </p:blipFill>
        <p:spPr>
          <a:xfrm>
            <a:off x="-71280" y="44280"/>
            <a:ext cx="932328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단체의 출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베이컨의 이상 실제로 구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573228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왕립학회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철학회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4" descr="sprat"/>
          <p:cNvPicPr/>
          <p:nvPr/>
        </p:nvPicPr>
        <p:blipFill>
          <a:blip r:embed="rId1"/>
          <a:stretch/>
        </p:blipFill>
        <p:spPr>
          <a:xfrm>
            <a:off x="539640" y="189000"/>
            <a:ext cx="4337280" cy="5352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philtrans"/>
          <p:cNvPicPr/>
          <p:nvPr/>
        </p:nvPicPr>
        <p:blipFill>
          <a:blip r:embed="rId2"/>
          <a:stretch/>
        </p:blipFill>
        <p:spPr>
          <a:xfrm>
            <a:off x="5021280" y="204840"/>
            <a:ext cx="34783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신기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1 : 1-20, 38-62, 98-106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삼단논법의 한계는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개의 우상을 설명하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이를 바탕으로 베이컨이 아리스토텔레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플라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수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원자론을 어떻게 비판하는지 설명하라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경험과 귀납 과정에서 유의할 점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아틀란티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71-90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쪽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솔로몬 학술원에서는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신기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에서 베이컨이 제시한 학문의 목적과 방법이 어떻게 구현되어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13336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지금까지의 철학은 무가치하므로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더 나은 설계도로 모든 것을 다시 정립하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올바른 기초 위에서 과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인간의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모든 지식에 대한 총체적인 재건축을 해야 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…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단지 그 방법밖에는 없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Francis Bacon, 1561-162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대 문헌을 걷어치워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물 자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스스로의 실험과 추론에 의지하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1628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는 무엇이든 증명하고자 할 때 관련 문헌을 인용하지 않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과 추론에 의해 결과를 얻어 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파라켈수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493-1541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식을 책 속에서만이 아니라 관련된 사물 자체에서 찾는 진정한 철학자에게 헌정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윌리엄 길버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44-1633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ook of Nature’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라는 비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이 쓴 두 권의 책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Bible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&amp; ‘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Book of Nature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6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종교 개혁은 신의 책을 직접 읽도록 권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69192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철학은 우리의 눈앞에 끊임없이 열려져 있는 우주라는 거대한 책에 씌어져 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…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것은 수학적 언어로 씌어 있으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 문자는 삼각형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리고 기타 도형들로서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것들이 없이는 인간은 단 한 단어도 이해하지 못할 것이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-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Galileo Galilei, 1564-1642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물 그 자체에 대한 관찰 없이 다른 이들의 해설로부터 가르침을 받으려고만 하는 것은 열등한 것이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특히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이라는 책은 열려 있으므로 참고하기가 쉽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-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하비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William Harvey, 1578-1657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이라는 거대한 책은 페이지마다 실재하는 상형문자들로 가득 차 있는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거기에서는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반대로 표현하자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물이 단어를 나타내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물의 특성이 문자를 나타낸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 -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보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Robert Boyle, 1627-1691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의문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아리스토텔레스도 경험을 존중하지 않았던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24:00Z</dcterms:created>
  <dc:creator>zolaist</dc:creator>
  <dc:description/>
  <dc:language>en-US</dc:language>
  <cp:lastModifiedBy>zolaist</cp:lastModifiedBy>
  <dcterms:modified xsi:type="dcterms:W3CDTF">2011-04-14T15:17:40Z</dcterms:modified>
  <cp:revision>53</cp:revision>
  <dc:subject/>
  <dc:title>베이컨과 실험과학의  탄생</dc:title>
</cp:coreProperties>
</file>